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008E-E9E7-4834-A7BA-9608789B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6AC6-418E-47EC-B989-7117DD44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2CFC2-4726-4879-8B14-A215E170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A25DC-047C-4779-9BF2-754CF425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AEF8E-6512-40F2-99AA-66595A1B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53BAB-5E07-4906-9AA0-80CF5AC5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2611E-C1D0-4FCC-BDC9-E2C36D59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23137-576A-40F7-9B73-0CE1D722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00DE7-0D9E-4A96-B1AF-E7EBD063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53F7E-4A35-4CE5-93B9-5BA37535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65148-7FF1-46A3-BEA6-907B64E2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FD0C1-8058-4E68-893F-8871B537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3C9D-60F7-4321-9DE8-5A2F9AAB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D3F2A-CF16-4C88-9669-810D83B3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46194-9C09-409F-B14D-74B0E9C7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CDE7C-0762-46E1-94C5-9E571FB9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68D99-289F-4687-BE84-9F1F9BD0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1593F-7720-40D6-83D7-577D671C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2D2C2-403B-4FD4-89DE-7E3E8E70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374F1-7F30-4EE7-B0B5-116DEC1D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1A4F9-DA96-4404-80D3-AEDB5BF6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287C5-8514-475D-9C57-9A557619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8BD57-BD42-4E06-B538-01A19AE8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3975-66C0-454E-AC47-BDDA31BC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6C35A-019B-45F9-82AF-9DE66F42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8109C-F010-48DD-B2B0-94E97741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1E9A1-D99A-4876-A559-C44C852C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5CC6F-0BC5-4BDD-BAF7-8BCE5572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54193-AEAB-44D6-8D98-015A80EF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76655-9330-4A4B-99D4-C83CE776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923DF-C603-41C8-9221-DA6EBE0F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B64BE-17D2-461B-8D38-7EACA1F7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8D6F7-D397-4949-B3F3-1E3723CB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885D3-52C9-4F59-8DB9-ED00DDD9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5EC0-922A-43C7-9FBA-CC2F06D5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F064B-92AE-47F5-B720-6AB4FD34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25EEC-3350-49FC-82D6-5D1ECF31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91F93-D235-4F0E-BDBB-C3842321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222B5-DF06-4114-9FA7-C1AA37BA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0A96C-16BD-4DEB-A162-0C0F1546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010E1-E86C-4FDB-AA3D-62B59E8E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1104C-3F98-4301-9084-8D9DE04B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BACB88-44A9-45F6-8AA0-418ED19A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7827B-7166-4C8A-9535-C725922D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E80B7-9096-48B3-873B-A87D19C4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2909-3EEE-487E-B24B-6971A9C1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0C4A3-9F4A-48B4-8155-D0A1BDC0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7983C-F5EB-4056-A7D7-A54FA9DA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206EE-AF95-4D57-9BB6-1F0F5C65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9B0F8-A392-4CF9-9DCD-9403ABCE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DF085-5487-4C54-83D1-93345E0A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5D35A1-E385-4B5D-B116-24F9E957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14F17F-C212-43E1-9238-DD26C3B5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D8F5CF-F8BE-45C2-AEAF-26C7889B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8597BB-E817-46D4-B9A8-917B951E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6BD2BB-2C45-4DF4-8240-DCF3765E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E055-64DA-44A1-9848-1D5F5F68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93DD73-D092-4942-BC68-A570C8DD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F7764F-8712-42CA-9F89-6DD58657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6A2EBB-FFEF-44C8-AEE3-F499CA7C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1458E3-6CE1-4002-85C4-85F67AB8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2FD068-8032-4D18-8C34-B6880BA7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4403AE-011E-43EB-97B3-276DC975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77BEE4-01D3-4981-9AD1-E6EFFAFA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4FED12-FAFE-4414-B5E0-3E814AE6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52D27D-6B37-4B5F-8698-503E3558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65565F-416E-4338-BCD0-F16EA398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F1AC-6142-4F5C-AC07-E7A990FB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A407EA-41B1-489F-9B4B-C84F992D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EFBBE1-9821-47F9-8B17-E148AE47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121C27-FFBA-4F14-A7C4-1503F861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EEFF51-72DE-40AC-8DDD-23F04ECB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DA3A18-60BB-48A6-9F24-D27257F7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BE51D3-3D66-4578-925F-48B0FEF5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5351AF-B915-445E-93D4-4E57F0BD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CCABB2-A215-46DA-9959-9C2B61C6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9996DE-FC19-4AA1-A562-E58409DB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586BE9-6100-4DED-98F4-906F4209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FA53-6D9B-4277-8811-926282DD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B6F6E2-5351-4320-BA44-B68BAAF6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180970-61FA-437E-AC89-4E8A60FD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831982-FB13-4010-9A85-2B0A3981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F37ED8-C3D2-4AFE-818E-B3F2B2D1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5D6765-B0F7-447C-862A-12810F27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99EABF-0733-40C9-A60A-E7DAD3F3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16111B-3304-4550-BFC1-AF30DD37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650EEB-4611-41A7-93F0-1953B6FA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C93DE1-B274-498F-BF7F-408B67F7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FF3EA9-BF02-4391-B794-B544C708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3E66-5A6E-4FBE-80E4-BA6A1DF5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C140BE-5AEF-440E-9F65-4C2E17BE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6D85AD-3A4A-461E-8EE1-112AF590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D338F1-3AD7-4A28-BDEA-DB3A05D3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C7D4F1-C1A2-40F5-9D9C-2380EDEF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ACD0FC-2E03-4168-9A12-C334E70C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09D822-31C4-4CE4-BD9C-154CDEF1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C7A4B1-BFA9-4B39-A3F1-977928E6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C641B6-10F9-431C-A28B-C6D19E58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EC3508-4DD3-4ACB-9C04-1B4C5BC2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FC64F6-8E37-4AA7-AC2C-D4C41770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76E9-2359-47E0-BA53-A71AD885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0D3196-A1FA-4086-8C8A-54BE69B0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09B479-5232-485C-BD3A-6B39C92C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0461BD-2167-4F76-B4C1-ECD7CC83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A0C04D-C26A-4C7E-AD3D-62AF0480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4FE78D-95EE-4703-87AB-FA6EB9FE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2E7C63-217B-404E-8B18-F8ED0DC2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8096B8-EBC0-4C20-8935-83F4B425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D20967-AB1F-47EE-BF46-38DBF98C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3015D7-A0FF-463A-9195-09EDA58D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E69360-BDC9-4FA0-8C3F-5E323948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D111-3E65-4D5B-BD6C-150CA3C6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4E58-D012-4578-8CA4-38826508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353CE9-61CD-4430-ADB0-DAF791A5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B7BD75-664F-4D49-AB3B-3C18C131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F7DA42-EBB7-40A0-9DCA-DB76A08D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243CA0-4DA0-42FC-8BF0-CD05D10C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65519D-2564-4E28-84B0-C5E75EA1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E6D2B2-0980-455D-96EE-DF452721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887407-E1D2-48E9-945D-9A1F2DB2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D75325-EB68-49BF-B6DD-FC374D64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141DEA-040E-4B68-8A3B-ED7E77A3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CDE55B-75D1-464C-9BE2-DEEB733A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78C2-71FC-4F40-BE1C-C336AE7E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CB099F-5557-42E1-BE59-EA422933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E40A14-B599-4DB7-850A-FDFCC1B7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9F24CB-E953-4770-AA26-62A79217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394CD7-9F8F-4F40-B88D-B937ADBF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B33F81-CA45-4231-BB51-7E185CCC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8599B2-0D6A-42B9-9005-44215174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DFB3C1-417E-4D0A-964A-3BE42073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9A5FF1-AAE9-4CEA-83F4-1032D0CE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DA6801-98FD-477F-A67E-F24C8C53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B74565-503D-4D93-B64F-843C9305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2043-9AA2-40A4-9646-08194E1C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A75C94-6241-4B4D-B942-5DAC2648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CD5EF4-2E1F-40B9-8A3A-A5489299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59427A-DE24-4686-8AF5-BE218233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2ED2B1-2AE7-4155-B693-928E9720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8D3288-2209-48D3-AA17-DC48E12F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43581B-7EBE-498C-9645-6B96708E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EFC59A-07C8-4ED5-AE3A-38453F3E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F17F0D-9553-42ED-B95E-9DF09C70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204B6E-209F-4E71-B9BE-DE5767DE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0CD889-51E2-41CE-A276-2D608213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013D-A201-4170-89A4-4D509DC1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7A0509-B20A-44B9-A66D-4C844DAF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BC5DD8-40D8-4F6B-A989-A8BAC45B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10EC3E-2C9E-4113-B5A8-DD8A1F24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B11C12-767E-4095-9F3F-7EE57019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BAF014-F937-4851-9D0A-A2D25103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854870-0992-4AA0-A52D-F6399761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C4B59D-9C9D-4C99-89D2-B6F7A589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AEF849-3635-4B7A-894D-16F06C69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696FEF-76A5-4B0F-9214-EF5F357C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49F1B9-ABAE-48FA-BAED-8037817D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D4B9-6F59-43C8-800A-24AB9EBE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FA6E4C-76B8-47A9-99B2-161193AA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F8EB67-12F1-46FC-97BA-E096EC5E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EE3ADD-CC25-4538-B938-DAC89343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004D5E-BDEA-40AA-824C-A9907A05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DE896C-6F6E-4D59-9C86-F066A1D7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688073-CEE0-4089-AA01-4423D438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A66541-9B37-4B13-B34A-7412837F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B5EA32-0400-4747-B392-F5B68804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536149-200E-408E-B9C7-BAD94E31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FD1248-2030-4CE3-A335-4EA41524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53FEE-C758-4437-BB28-28C308E6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DED3C3-AF9D-4711-97B7-A2A2E0BC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7BB7B7-206F-4594-8EC7-0D974436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AD5FB0-1111-4317-8735-654909D0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1C4C89-33CB-4357-8C3C-4D2FDE55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713B8A-55D2-4FD1-9D9D-7F9BEC18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64647D-23DD-45B1-BE50-7777B74C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E306DB-1FD0-495B-AAFF-C64404D9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107493-1D71-42E1-ACEE-279C538B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9851C7-A51D-4D63-A463-27B4D134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FA1600-1B99-4740-8D73-075B39DA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3FFBB-46CC-44DE-9748-0513BB06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C3CC4B-F45E-4907-BCED-83537B4A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91AB45-4B18-4C96-8F94-E7076F7B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6797EE-5F64-4486-A16D-4FCA08D8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6A1162-47BF-47D6-A631-8D7716C4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2E90B5-608F-48C1-BCFD-99A047F5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768892-D994-4298-B7DE-194F64BE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6A5864-F8F3-40AD-8B68-6DBE3473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FCC9DF-81DA-4F47-B32B-55D9D3F6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DB791C-018A-46EF-B3C2-12F3AD84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5F5F07-EA39-434E-9D75-FFAB1D52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ABB50-C9DC-4B36-9E4B-3CF0ABC2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E3AFF1-A00B-41C5-A9F6-E0331E20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D75364-0114-4353-861E-C7E9421E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CFDD09-A231-4346-827A-E1666C2F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8A3985-5040-4269-B218-541BC9D4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A4F81B-0A1E-4DF3-809D-A972F963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448FF6-77DE-41A3-BB2E-34AE9744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745C7A-4C1D-4C0E-8226-D897773D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8A7C9A-4BDF-4325-9903-05150A23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9ABCED-4388-484C-88AE-3C28B46D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038A7B-CC5D-49FF-897C-E9BDFBBB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3FA45-66A1-4C40-9D55-223B28B9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5949E7-20E3-4D37-A6A7-666DFC9C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8692E4-1F26-480D-902A-E269E32D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E6E427-3EB8-4846-8D5F-44C4B724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95B3BE-258D-48C3-9EAE-8A456D5D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469EFB-4632-4BBA-B83F-C6712FE7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B95683-393E-4297-9904-980BDF1B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6B07CF-083D-4B7D-9564-0814E37C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151A9B-2347-48ED-BA6A-402A8E0C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E11A48-621A-4478-991C-5A7C9D4C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9DBC99-3E0F-4B84-97FA-D24C0C3C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152FB-3CA6-4EEA-9D70-D7C2A8AD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817ED6-5CB4-422A-85D3-DFDE7DB1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5BE10B-EB5F-4670-8777-C0A9649B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F1F361-9977-47BF-B33A-3ADAF77B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0FCD64-F762-4CCD-8CF4-7247D885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0C6BBF-C8B9-4133-9C81-7ADDFAA2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1F0B7F-CB9F-47E3-A520-D3D80995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91A470-ECD3-410F-A897-DB93ECC7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89D0C0-4C25-4041-8CAC-F1342116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6885FF-DA22-417E-A649-B25F559E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C2C94E-B2B3-42B4-AEFC-7A0DE7E8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11E7-9D9A-45B9-AD1E-3317A4A4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45E19-77C9-4BDC-A5EF-92D3873C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759FF4-B1A6-4350-BA1B-50E49358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8E1082-ECF7-4621-BFC9-11C5F802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E9867E-C90C-47B8-AC20-9823CFDB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97B447-D25A-46AF-8CC4-50223E56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98C7C4-E60F-4E44-8EF5-0379AC05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3AD014-6E99-415A-941D-764B0C80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230064-FF0F-4D1F-9402-E3920A07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927B2F-4D32-4E39-B0C4-3FC7CFC1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976A91-A826-4FA2-8903-C21BFE0C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A94A17-D659-441A-AA7C-6C71AC78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BA34D-9CA8-4307-A930-4B981364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A2A2B1-19F9-4F76-9B02-3F89EF08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74F14D-15F6-4C2A-B82A-3BC5B2BA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9CE1BE-8F8C-4BF7-92A6-E99D9B73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919142-9D91-4993-99C2-14982D0E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4A61FB-7116-49C2-9B46-7E358243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024164-2B09-4FFE-BF11-3DBC60C2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F290440-932C-4983-9D01-B507030B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16AB43-93D1-4D32-9F45-47291598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4D1661-3681-474F-9D5B-E61F6AEB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AB10A0-7751-4100-A5FF-32678880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3213D-89A0-4902-9C8D-96BA56D9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DAF69C-2676-47B5-9EC1-4B7427D3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1A7C7B-183D-467F-862E-D3620CEC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B1064F-4E07-471E-AB50-CB54BB7F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34D2DA-33F5-4AE3-A2C2-C278E148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0E60CF-1B0D-4120-B08E-BC523F2A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6EBB44-8432-40A9-81D3-10CB67C7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519EE6-1143-4A72-BAFC-D9932936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C3CA58-E03F-495D-A3E5-3E74622F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AE1CD6-CDD5-430E-AD5E-653AA60D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A933E9-6CDB-459E-BB09-EF51A69E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5218D-DB83-4D7B-AD3B-275E9A32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DDE25E-CC15-4BCE-9B43-41263C7E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FC2951-8981-4805-83BE-0963193C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F9C0A1-78E9-4A0F-AED8-37026095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F040CC-7C63-43F7-BCE5-EADF8657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5CF5C3-DF73-408A-AF24-1B117E74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12B959-11BC-4317-B2EC-376F9529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B6A81F-E24A-40F8-B75F-9C51C7CE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4A705D-C5AC-45CE-A5F3-443099F6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F61C9B-6A7C-4138-A7CA-74DB5EA2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FE7E2F1-9773-4173-B201-C1DDF5FC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69B73-8603-462D-BC0A-C95BCE6F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B60DBE6-1863-4111-A567-24D2513F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4656B8-FB88-4682-BB81-4098C827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132DC6-7B93-43BF-AC72-0009ABB2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B0AF90-A648-4BCB-A1F7-D1A268AC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AD9CF8-368E-4F3F-B50B-24327282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16298A-FEF4-4E80-B3BA-589600F8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E57068-BEAE-48E8-A9DE-44C46B6C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A82541-9F60-492B-9A0C-131A4E4D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E4DC830-A76A-4E44-8CB6-BC7BDF98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B269B3-1700-43F6-B34E-51EA405DA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2CF18-25A7-4870-8370-AF1E94CC9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0BB178-82E4-4935-843A-F72B1E7F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E3473C-B232-4EF8-A737-EF66BFB1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845777-8C6C-4812-9E29-AB9887E0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E0BD2C-E4D0-4084-A94C-7F55A883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1E5244-6D2B-4AF6-9192-98085FBA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587B45-F69F-4AEC-9A9F-283859CD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FC4277-1BE5-4B39-B964-C4421222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6DB3C0-ABA7-4B77-81E8-FB7F5CB4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524E88-569C-46D2-A202-F4A41A61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49CEF3-A665-4249-AC01-B8EEA2CF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0C93E-CF5A-4899-A009-3E29466F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9C642D-BF8E-49D8-8818-0A1488E5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91AC3A8-589D-4CA1-82A5-514FF01B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1CFA8D-46B5-462D-9222-92DC16BE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A78A054-0885-4420-BDF0-D7D96CE8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230EAD9-33F4-4985-9823-AF4280E9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9E2AAB-318C-4DF8-A436-08634C06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173408-0D45-498D-AA4F-365F385C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45B0E3A-CB94-4A69-A59E-2BF40B18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DAE44B9-1A60-45FE-8477-CD3423B0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FE5358-A269-427A-83D0-D51569A1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B86C7-A46E-4147-A25C-7EB54B79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5C770A2-02E6-4CB9-8B8A-4BAB865F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946524-2797-41A5-8DE5-E35500A7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11B1B5-0D3E-4864-A9CD-1E02EFF9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7F1A6-B9C4-4BC5-BAA4-7DC85AE3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76C92-126B-4264-B6A8-B1068BD8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1C79-2E8A-4FE7-AAA4-B060F585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1A6C4-8970-4FBD-AA88-8F11B67B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6540E-5981-48D9-9307-B5D5EF29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DD068-C73C-429A-81B2-FC78998F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AA50B-51B6-4357-898A-31279EC0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45F88-44C8-42E5-9C44-13AEFBC9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CFC99-999A-414E-B207-50399880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D2B9F-E0C1-40F6-9037-07CB60B8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9CB0C-FD9D-4254-881B-E81AFAEB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0488B-3756-4963-9B69-26D79CDD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42E54-CF3B-4653-BE59-E30ACFAC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9874-740F-4A11-93CF-56B711E1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53F9D-BEE4-4D7E-9B4D-EB2B80DD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8BFFE-51B4-4A8F-B521-275E1726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E20B1-C67D-4866-90AC-0E4DB505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FD31C-F43B-4543-BE95-43274741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DAA19-7166-43C2-B930-B0C71891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9A37E-5A7A-4BE7-9209-FDA0E2A4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3F6B8-5919-450C-BCF1-0AE6A4F0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1778E-7F99-4BF0-ADED-14924509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DC2A9-6D55-4BF5-B3CB-378CE35E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27BBF-6C81-411B-A56B-62DC6681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2106-389F-4D54-A1CE-4D6CA3D6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F481E-E473-4F93-BC0B-42B495ED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8DCEE-EB0F-496F-BD05-ED7C5289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8946B-6C18-479A-8861-963D7761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C789D-93A2-46B7-82BF-30F1C790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9254C-7132-4B06-8D56-E46A7734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72D23-6BDC-431C-BCCA-06BE3F0C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26E3F-C163-4FB9-95C0-FE6895E5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739C5-4527-4833-91F7-CBAE5C64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012C3-EEB0-4EEC-9050-D0FD9619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7DBC2-E4D1-4DA2-BE9E-D7840CD6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CDE0-AC53-459C-AA3B-63630BA8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BD5AF-594D-40C9-A2DE-EA1E2E34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13BAB-D9DE-4065-98BC-9DB7ACE1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4D974-01FF-4BF2-A9D1-ED792FC3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D6018-A7EE-47BB-8551-2F16BC5E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C304B-D0FA-4EAA-A5C8-6AE80906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F189E-2914-4CC7-B5C4-0E299E1D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5185E-C059-4B46-9463-7652A55B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06232-04A5-4846-8418-22F9EE1E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30E21-2398-4153-8FC2-6EBAF53F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B5512-93A1-49F9-BEE5-2A416023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1196-FDE2-4B1E-B07A-1C72D7A5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51518-1258-46D6-97BC-93DF5AF6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81139-6BD7-409A-9404-44113BB3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A56D4-B7FD-4297-BFF8-143593C1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810EB-9787-41A3-ACA2-C5D52E7C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052B8-C938-4DCB-9018-6383E468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39771-F7ED-4FCE-8872-EFA604B43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455B0-DF80-46FB-A29E-DE9C1CA0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B37C1-760F-46AD-AFEA-D9D29ADF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91244-5E87-4523-81FF-F447E3FB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C34F3-6001-4333-AC46-F2307C4F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3B6-2012-44E2-AC76-950AD818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23CAC-324D-4BBE-BD73-AF0738F6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FC4FD-57D9-4081-9987-CFED3001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B8A5E-1ACB-4CEF-9EF4-6D656438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46A82-BF54-4D40-9D62-9B9A0DC5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07B31-02F5-4D63-AED4-665D9976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576AB-045D-48A1-B1EB-1DE6802C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A7254-F8CD-4FFC-A8C9-03D8774CC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EA606-DB89-4765-8186-B26889AE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6EA8C-1F3E-4385-9819-66C041E6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E0F30-25EE-43BA-8ED0-5C4BB713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7C8E-E5F0-4677-9C1C-96EDF8AE0B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75AA-5C26-4E04-84A4-AF67F4D958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F856-0645-4CE2-A6CC-F19809B121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72DC-3D61-47AB-9A30-C359C52FAD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B667-2D79-4951-BE08-F5407E4C9F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61E4-9F33-479F-900C-86FE8726D6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64FB-A876-434F-9E6F-D2CA352C58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1DD9-3BF3-433C-BAE9-A734B800F4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79FD-C7A1-47EF-AADA-83BA32C6C6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E890-FFCD-4BD8-8FDA-B2756EA840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F670-DAE1-4CD8-9F15-ABE6A09AC7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851F-3F0C-42BC-A6F2-22EE3FC46F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1AF2-4746-4377-B78B-CACFA7CDAC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5848-AFE4-4045-A6E4-BE58541F6D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F42D-77C8-4675-85E0-78F31C5F4E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3AF2-FC1A-44F8-A2B9-4D55865609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9229-9CFF-4E1A-95CA-D5BC723C7A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9088-317A-4E18-ACE7-431B1EF133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8604-87F1-4520-9BBD-8C46EF6E2C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09EA-3E0A-4288-8003-1F4DEB44CD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1D87-DA7B-4F0D-9FAC-FD4F18E692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09EF-F521-4447-B3FE-B08D136DF4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FEC8-22FF-4D11-9072-537869D424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87F3-4532-4394-8BC1-B2DD307B17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6BAC-85EA-423E-BD49-477D110E34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4FCB-B0F6-4B02-B539-3CCD23057C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E325-14C0-4221-8911-24EF11480E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FB96-11E0-4420-A92A-98BA737454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4F56-08A7-4CC8-86AA-5BDF8AAA35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84A0-AB29-4D10-BA59-0A48231E42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EB90-81C3-4468-8D1D-1EFB9BEB59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30EC-9B4E-4835-9560-D527EC34BB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7164-FBC4-465B-A934-46CA795D61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D891-B078-47E0-9B08-8532823ED7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5840-7EDE-49B4-8F3B-66E1FF0E39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B01B-C376-4F6C-8CBC-9A5C5F0BFD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BFA7-2DC2-4B48-8AC2-7694B99E05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D7E1-571B-4534-8FBC-C8D9763C25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BCF4-F277-4ED5-BF63-C767B67141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D0BA-8D15-47F3-AD4F-9DC68BB63B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7D74-AC84-43F0-9E2F-6988B10C43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E81B-58BE-41F0-999D-1BEC0B1A14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0B93-013E-44EA-B39B-A7CE4B95E8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4DD3-DA58-4C2C-B9DB-5850284453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9629-F128-469F-96B4-886B547B73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10D4-ADD2-4EC0-A465-0F0DF70055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7D52-82D5-4211-86BE-C6F9E6B471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BAC8-BDC8-4602-BB2E-3D5C566F12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EE6E-E54B-4252-8632-313118BD51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922D-385C-4376-8CC4-32DCA3E3D4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3492360" y="1773360"/>
            <a:ext cx="1866960" cy="71424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2200320" y="3062160"/>
            <a:ext cx="474336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116738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296200" cy="5124600"/>
          </a:xfrm>
          <a:prstGeom prst="rect">
            <a:avLst/>
          </a:prstGeom>
          <a:ln w="0">
            <a:noFill/>
          </a:ln>
        </p:spPr>
      </p:pic>
      <p:sp>
        <p:nvSpPr>
          <p:cNvPr id="1466" name="矩形 116739"/>
          <p:cNvSpPr/>
          <p:nvPr/>
        </p:nvSpPr>
        <p:spPr>
          <a:xfrm>
            <a:off x="7885080" y="1668600"/>
            <a:ext cx="36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16740"/>
          <p:cNvSpPr/>
          <p:nvPr/>
        </p:nvSpPr>
        <p:spPr>
          <a:xfrm>
            <a:off x="7897680" y="4030560"/>
            <a:ext cx="36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115715" descr=""/>
          <p:cNvPicPr/>
          <p:nvPr/>
        </p:nvPicPr>
        <p:blipFill>
          <a:blip r:embed="rId1"/>
          <a:stretch/>
        </p:blipFill>
        <p:spPr>
          <a:xfrm>
            <a:off x="495360" y="1666800"/>
            <a:ext cx="81532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114689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105760" cy="4114800"/>
          </a:xfrm>
          <a:prstGeom prst="rect">
            <a:avLst/>
          </a:prstGeom>
          <a:ln w="0">
            <a:noFill/>
          </a:ln>
        </p:spPr>
      </p:pic>
      <p:pic>
        <p:nvPicPr>
          <p:cNvPr id="1470" name="图片 114690" descr=""/>
          <p:cNvPicPr/>
          <p:nvPr/>
        </p:nvPicPr>
        <p:blipFill>
          <a:blip r:embed="rId2"/>
          <a:stretch/>
        </p:blipFill>
        <p:spPr>
          <a:xfrm>
            <a:off x="684360" y="5229360"/>
            <a:ext cx="7839000" cy="1000080"/>
          </a:xfrm>
          <a:prstGeom prst="rect">
            <a:avLst/>
          </a:prstGeom>
          <a:ln w="0">
            <a:noFill/>
          </a:ln>
        </p:spPr>
      </p:pic>
      <p:sp>
        <p:nvSpPr>
          <p:cNvPr id="1471" name="矩形 114691"/>
          <p:cNvSpPr/>
          <p:nvPr/>
        </p:nvSpPr>
        <p:spPr>
          <a:xfrm>
            <a:off x="5040360" y="1617840"/>
            <a:ext cx="11872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4692"/>
          <p:cNvSpPr/>
          <p:nvPr/>
        </p:nvSpPr>
        <p:spPr>
          <a:xfrm>
            <a:off x="6157800" y="2189160"/>
            <a:ext cx="2374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4693"/>
          <p:cNvSpPr/>
          <p:nvPr/>
        </p:nvSpPr>
        <p:spPr>
          <a:xfrm>
            <a:off x="1547640" y="2786040"/>
            <a:ext cx="3888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14694"/>
          <p:cNvSpPr/>
          <p:nvPr/>
        </p:nvSpPr>
        <p:spPr>
          <a:xfrm>
            <a:off x="7783560" y="3344760"/>
            <a:ext cx="36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14695"/>
          <p:cNvSpPr/>
          <p:nvPr/>
        </p:nvSpPr>
        <p:spPr>
          <a:xfrm>
            <a:off x="6043680" y="3929040"/>
            <a:ext cx="2374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4696"/>
          <p:cNvSpPr/>
          <p:nvPr/>
        </p:nvSpPr>
        <p:spPr>
          <a:xfrm>
            <a:off x="1420920" y="4500720"/>
            <a:ext cx="11872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4697"/>
          <p:cNvSpPr/>
          <p:nvPr/>
        </p:nvSpPr>
        <p:spPr>
          <a:xfrm>
            <a:off x="8126280" y="5173560"/>
            <a:ext cx="36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4698"/>
          <p:cNvSpPr/>
          <p:nvPr/>
        </p:nvSpPr>
        <p:spPr>
          <a:xfrm>
            <a:off x="1547640" y="5732640"/>
            <a:ext cx="2160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图片 113665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220240" cy="5362560"/>
          </a:xfrm>
          <a:prstGeom prst="rect">
            <a:avLst/>
          </a:prstGeom>
          <a:ln w="0">
            <a:noFill/>
          </a:ln>
        </p:spPr>
      </p:pic>
      <p:sp>
        <p:nvSpPr>
          <p:cNvPr id="1480" name="矩形 113666"/>
          <p:cNvSpPr/>
          <p:nvPr/>
        </p:nvSpPr>
        <p:spPr>
          <a:xfrm>
            <a:off x="6361200" y="4221000"/>
            <a:ext cx="13795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13667"/>
          <p:cNvSpPr/>
          <p:nvPr/>
        </p:nvSpPr>
        <p:spPr>
          <a:xfrm>
            <a:off x="4748040" y="5300640"/>
            <a:ext cx="36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113668"/>
          <p:cNvSpPr/>
          <p:nvPr/>
        </p:nvSpPr>
        <p:spPr>
          <a:xfrm>
            <a:off x="6056280" y="5846760"/>
            <a:ext cx="36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图片 112641" descr=""/>
          <p:cNvPicPr/>
          <p:nvPr/>
        </p:nvPicPr>
        <p:blipFill>
          <a:blip r:embed="rId1"/>
          <a:stretch/>
        </p:blipFill>
        <p:spPr>
          <a:xfrm>
            <a:off x="538200" y="2604960"/>
            <a:ext cx="8067600" cy="1648080"/>
          </a:xfrm>
          <a:prstGeom prst="rect">
            <a:avLst/>
          </a:prstGeom>
          <a:ln w="0">
            <a:noFill/>
          </a:ln>
        </p:spPr>
      </p:pic>
      <p:sp>
        <p:nvSpPr>
          <p:cNvPr id="1484" name="矩形 112642"/>
          <p:cNvSpPr/>
          <p:nvPr/>
        </p:nvSpPr>
        <p:spPr>
          <a:xfrm>
            <a:off x="3643200" y="3129120"/>
            <a:ext cx="48164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12643"/>
          <p:cNvSpPr/>
          <p:nvPr/>
        </p:nvSpPr>
        <p:spPr>
          <a:xfrm>
            <a:off x="1560600" y="3675240"/>
            <a:ext cx="22906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图片 111617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8684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图片 110593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334360" cy="5886720"/>
          </a:xfrm>
          <a:prstGeom prst="rect">
            <a:avLst/>
          </a:prstGeom>
          <a:ln w="0">
            <a:noFill/>
          </a:ln>
        </p:spPr>
      </p:pic>
      <p:sp>
        <p:nvSpPr>
          <p:cNvPr id="1488" name="矩形 110594"/>
          <p:cNvSpPr/>
          <p:nvPr/>
        </p:nvSpPr>
        <p:spPr>
          <a:xfrm>
            <a:off x="5408640" y="3192480"/>
            <a:ext cx="1179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10595"/>
          <p:cNvSpPr/>
          <p:nvPr/>
        </p:nvSpPr>
        <p:spPr>
          <a:xfrm>
            <a:off x="2411280" y="3751200"/>
            <a:ext cx="1513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10596"/>
          <p:cNvSpPr/>
          <p:nvPr/>
        </p:nvSpPr>
        <p:spPr>
          <a:xfrm>
            <a:off x="3402000" y="4830840"/>
            <a:ext cx="3762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10597"/>
          <p:cNvSpPr/>
          <p:nvPr/>
        </p:nvSpPr>
        <p:spPr>
          <a:xfrm>
            <a:off x="7453440" y="5364000"/>
            <a:ext cx="1179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10598"/>
          <p:cNvSpPr/>
          <p:nvPr/>
        </p:nvSpPr>
        <p:spPr>
          <a:xfrm>
            <a:off x="1560600" y="5961240"/>
            <a:ext cx="2579760" cy="59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图片 109569" descr=""/>
          <p:cNvPicPr/>
          <p:nvPr/>
        </p:nvPicPr>
        <p:blipFill>
          <a:blip r:embed="rId1"/>
          <a:stretch/>
        </p:blipFill>
        <p:spPr>
          <a:xfrm>
            <a:off x="485640" y="1285920"/>
            <a:ext cx="8172720" cy="4286160"/>
          </a:xfrm>
          <a:prstGeom prst="rect">
            <a:avLst/>
          </a:prstGeom>
          <a:ln w="0">
            <a:noFill/>
          </a:ln>
        </p:spPr>
      </p:pic>
      <p:sp>
        <p:nvSpPr>
          <p:cNvPr id="1494" name="矩形 109570"/>
          <p:cNvSpPr/>
          <p:nvPr/>
        </p:nvSpPr>
        <p:spPr>
          <a:xfrm>
            <a:off x="5688000" y="2303640"/>
            <a:ext cx="31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09571"/>
          <p:cNvSpPr/>
          <p:nvPr/>
        </p:nvSpPr>
        <p:spPr>
          <a:xfrm>
            <a:off x="1573200" y="2862360"/>
            <a:ext cx="31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09572"/>
          <p:cNvSpPr/>
          <p:nvPr/>
        </p:nvSpPr>
        <p:spPr>
          <a:xfrm>
            <a:off x="2665440" y="3395520"/>
            <a:ext cx="36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09573"/>
          <p:cNvSpPr/>
          <p:nvPr/>
        </p:nvSpPr>
        <p:spPr>
          <a:xfrm>
            <a:off x="6659640" y="4489560"/>
            <a:ext cx="1800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09574"/>
          <p:cNvSpPr/>
          <p:nvPr/>
        </p:nvSpPr>
        <p:spPr>
          <a:xfrm>
            <a:off x="1335240" y="5021280"/>
            <a:ext cx="1800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124929" descr=""/>
          <p:cNvPicPr/>
          <p:nvPr/>
        </p:nvPicPr>
        <p:blipFill>
          <a:blip r:embed="rId1"/>
          <a:stretch/>
        </p:blipFill>
        <p:spPr>
          <a:xfrm>
            <a:off x="371520" y="1395360"/>
            <a:ext cx="8400960" cy="4067280"/>
          </a:xfrm>
          <a:prstGeom prst="rect">
            <a:avLst/>
          </a:prstGeom>
          <a:ln w="0">
            <a:noFill/>
          </a:ln>
        </p:spPr>
      </p:pic>
      <p:sp>
        <p:nvSpPr>
          <p:cNvPr id="1435" name="矩形 124930"/>
          <p:cNvSpPr/>
          <p:nvPr/>
        </p:nvSpPr>
        <p:spPr>
          <a:xfrm>
            <a:off x="1979640" y="2565360"/>
            <a:ext cx="227484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1"/>
          <p:cNvSpPr/>
          <p:nvPr/>
        </p:nvSpPr>
        <p:spPr>
          <a:xfrm>
            <a:off x="4932360" y="2565360"/>
            <a:ext cx="120492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2"/>
          <p:cNvSpPr/>
          <p:nvPr/>
        </p:nvSpPr>
        <p:spPr>
          <a:xfrm>
            <a:off x="1941480" y="3048120"/>
            <a:ext cx="443088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3"/>
          <p:cNvSpPr/>
          <p:nvPr/>
        </p:nvSpPr>
        <p:spPr>
          <a:xfrm>
            <a:off x="1916280" y="3556080"/>
            <a:ext cx="150336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4"/>
          <p:cNvSpPr/>
          <p:nvPr/>
        </p:nvSpPr>
        <p:spPr>
          <a:xfrm>
            <a:off x="5560920" y="3556080"/>
            <a:ext cx="239580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4935"/>
          <p:cNvSpPr/>
          <p:nvPr/>
        </p:nvSpPr>
        <p:spPr>
          <a:xfrm>
            <a:off x="1908000" y="4095720"/>
            <a:ext cx="66754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4936"/>
          <p:cNvSpPr/>
          <p:nvPr/>
        </p:nvSpPr>
        <p:spPr>
          <a:xfrm>
            <a:off x="1776240" y="4444920"/>
            <a:ext cx="779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4937"/>
          <p:cNvSpPr/>
          <p:nvPr/>
        </p:nvSpPr>
        <p:spPr>
          <a:xfrm>
            <a:off x="2004840" y="4952880"/>
            <a:ext cx="46548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图片 123905" descr=""/>
          <p:cNvPicPr/>
          <p:nvPr/>
        </p:nvPicPr>
        <p:blipFill>
          <a:blip r:embed="rId1"/>
          <a:stretch/>
        </p:blipFill>
        <p:spPr>
          <a:xfrm>
            <a:off x="366840" y="2205000"/>
            <a:ext cx="8410320" cy="2448000"/>
          </a:xfrm>
          <a:prstGeom prst="rect">
            <a:avLst/>
          </a:prstGeom>
          <a:ln w="0">
            <a:noFill/>
          </a:ln>
        </p:spPr>
      </p:pic>
      <p:sp>
        <p:nvSpPr>
          <p:cNvPr id="1444" name="矩形 123906"/>
          <p:cNvSpPr/>
          <p:nvPr/>
        </p:nvSpPr>
        <p:spPr>
          <a:xfrm>
            <a:off x="8132760" y="3517920"/>
            <a:ext cx="39996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122881" descr=""/>
          <p:cNvPicPr/>
          <p:nvPr/>
        </p:nvPicPr>
        <p:blipFill>
          <a:blip r:embed="rId1"/>
          <a:stretch/>
        </p:blipFill>
        <p:spPr>
          <a:xfrm>
            <a:off x="328680" y="1919160"/>
            <a:ext cx="8486640" cy="3019680"/>
          </a:xfrm>
          <a:prstGeom prst="rect">
            <a:avLst/>
          </a:prstGeom>
          <a:ln w="0">
            <a:noFill/>
          </a:ln>
        </p:spPr>
      </p:pic>
      <p:sp>
        <p:nvSpPr>
          <p:cNvPr id="1446" name="矩形 122882"/>
          <p:cNvSpPr/>
          <p:nvPr/>
        </p:nvSpPr>
        <p:spPr>
          <a:xfrm>
            <a:off x="3065400" y="3378240"/>
            <a:ext cx="222732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2883"/>
          <p:cNvSpPr/>
          <p:nvPr/>
        </p:nvSpPr>
        <p:spPr>
          <a:xfrm>
            <a:off x="4068720" y="3784680"/>
            <a:ext cx="27352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122884"/>
          <p:cNvSpPr/>
          <p:nvPr/>
        </p:nvSpPr>
        <p:spPr>
          <a:xfrm>
            <a:off x="2916360" y="4221000"/>
            <a:ext cx="280656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22887"/>
          <p:cNvSpPr/>
          <p:nvPr/>
        </p:nvSpPr>
        <p:spPr>
          <a:xfrm>
            <a:off x="3267000" y="4614840"/>
            <a:ext cx="273528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121857" descr=""/>
          <p:cNvPicPr/>
          <p:nvPr/>
        </p:nvPicPr>
        <p:blipFill>
          <a:blip r:embed="rId1"/>
          <a:stretch/>
        </p:blipFill>
        <p:spPr>
          <a:xfrm>
            <a:off x="366840" y="2638440"/>
            <a:ext cx="8410320" cy="1581120"/>
          </a:xfrm>
          <a:prstGeom prst="rect">
            <a:avLst/>
          </a:prstGeom>
          <a:ln w="0">
            <a:noFill/>
          </a:ln>
        </p:spPr>
      </p:pic>
      <p:sp>
        <p:nvSpPr>
          <p:cNvPr id="1451" name="矩形 121858"/>
          <p:cNvSpPr/>
          <p:nvPr/>
        </p:nvSpPr>
        <p:spPr>
          <a:xfrm>
            <a:off x="8139240" y="3078000"/>
            <a:ext cx="36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120833" descr=""/>
          <p:cNvPicPr/>
          <p:nvPr/>
        </p:nvPicPr>
        <p:blipFill>
          <a:blip r:embed="rId1"/>
          <a:stretch/>
        </p:blipFill>
        <p:spPr>
          <a:xfrm>
            <a:off x="295200" y="952560"/>
            <a:ext cx="8553600" cy="4952880"/>
          </a:xfrm>
          <a:prstGeom prst="rect">
            <a:avLst/>
          </a:prstGeom>
          <a:ln w="0">
            <a:noFill/>
          </a:ln>
        </p:spPr>
      </p:pic>
      <p:sp>
        <p:nvSpPr>
          <p:cNvPr id="1453" name="矩形 120834"/>
          <p:cNvSpPr/>
          <p:nvPr/>
        </p:nvSpPr>
        <p:spPr>
          <a:xfrm>
            <a:off x="7694640" y="3230640"/>
            <a:ext cx="8380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120835"/>
          <p:cNvSpPr/>
          <p:nvPr/>
        </p:nvSpPr>
        <p:spPr>
          <a:xfrm>
            <a:off x="6970680" y="3598920"/>
            <a:ext cx="17780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120836"/>
          <p:cNvSpPr/>
          <p:nvPr/>
        </p:nvSpPr>
        <p:spPr>
          <a:xfrm>
            <a:off x="976320" y="3992400"/>
            <a:ext cx="28036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120837"/>
          <p:cNvSpPr/>
          <p:nvPr/>
        </p:nvSpPr>
        <p:spPr>
          <a:xfrm>
            <a:off x="4748040" y="4361040"/>
            <a:ext cx="3856320" cy="31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120838"/>
          <p:cNvSpPr/>
          <p:nvPr/>
        </p:nvSpPr>
        <p:spPr>
          <a:xfrm>
            <a:off x="976320" y="4741920"/>
            <a:ext cx="12920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120839"/>
          <p:cNvSpPr/>
          <p:nvPr/>
        </p:nvSpPr>
        <p:spPr>
          <a:xfrm>
            <a:off x="3236760" y="5110200"/>
            <a:ext cx="183996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120840"/>
          <p:cNvSpPr/>
          <p:nvPr/>
        </p:nvSpPr>
        <p:spPr>
          <a:xfrm>
            <a:off x="6373800" y="5122800"/>
            <a:ext cx="183996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图片 119812" descr=""/>
          <p:cNvPicPr/>
          <p:nvPr/>
        </p:nvPicPr>
        <p:blipFill>
          <a:blip r:embed="rId1"/>
          <a:stretch/>
        </p:blipFill>
        <p:spPr>
          <a:xfrm>
            <a:off x="419040" y="1138320"/>
            <a:ext cx="8305920" cy="4581360"/>
          </a:xfrm>
          <a:prstGeom prst="rect">
            <a:avLst/>
          </a:prstGeom>
          <a:ln w="0">
            <a:noFill/>
          </a:ln>
        </p:spPr>
      </p:pic>
      <p:sp>
        <p:nvSpPr>
          <p:cNvPr id="1461" name="矩形 119813"/>
          <p:cNvSpPr/>
          <p:nvPr/>
        </p:nvSpPr>
        <p:spPr>
          <a:xfrm>
            <a:off x="7961400" y="2963880"/>
            <a:ext cx="36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图片 118786" descr=""/>
          <p:cNvPicPr/>
          <p:nvPr/>
        </p:nvPicPr>
        <p:blipFill>
          <a:blip r:embed="rId1"/>
          <a:stretch/>
        </p:blipFill>
        <p:spPr>
          <a:xfrm>
            <a:off x="504720" y="2043000"/>
            <a:ext cx="813456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117762" descr=""/>
          <p:cNvPicPr/>
          <p:nvPr/>
        </p:nvPicPr>
        <p:blipFill>
          <a:blip r:embed="rId1"/>
          <a:stretch/>
        </p:blipFill>
        <p:spPr>
          <a:xfrm>
            <a:off x="414360" y="1542960"/>
            <a:ext cx="8315280" cy="3772080"/>
          </a:xfrm>
          <a:prstGeom prst="rect">
            <a:avLst/>
          </a:prstGeom>
          <a:ln w="0">
            <a:noFill/>
          </a:ln>
        </p:spPr>
      </p:pic>
      <p:sp>
        <p:nvSpPr>
          <p:cNvPr id="1464" name="矩形 117763"/>
          <p:cNvSpPr/>
          <p:nvPr/>
        </p:nvSpPr>
        <p:spPr>
          <a:xfrm>
            <a:off x="7948440" y="2163600"/>
            <a:ext cx="36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17:07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